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429-D879-435A-9B2A-A02930DB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793-3474-4FF1-B0D3-0EBE811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D0C-50CB-4E94-A353-DDFC61D5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A5C-6853-49D7-B6E5-E0606442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2EA-A4C1-431E-88CD-6CCA6C44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2DF4-2B69-4B06-B191-965AA72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A252-E8D4-477F-9DE4-5A99CDE8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358-EC35-4E47-8C9A-765CBA2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DDE-9F5A-4A6F-B619-75AC9C5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DAF-2416-47ED-8134-D95CB503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4187-A881-4DF8-9295-26CBA88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CAF-1A39-41A1-AE65-23BAB82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B07-58B0-4F1E-82BF-9AEDDA4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5C60-17E0-44CE-AA36-6C2D9E5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97A-8454-46AC-9CC6-D057A7A4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592F-B16F-4764-B6D1-7713D60F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8DD7-1691-4F3D-8FA3-82BAC3A4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ADB7-D22A-4A66-9A27-74CD955E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D40B-CCC0-4BFE-90F1-E64A9FF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5BB1-B6D7-4C9F-86B1-F0CD631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2FA9-9D20-4210-B5EF-86A677A1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7BB9-5FA9-4D12-99A3-020B28A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FC8-7700-4CF8-8C2C-8997804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5F03-391C-47CE-8778-1567EE9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F6D2-FCA5-4FFE-A1A9-FC4A44D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725C-F0B9-47D0-983D-0C0E8D1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5EB4-335F-40E6-B358-98EFC02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E0B9-D46E-42D0-9B08-D3325023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18FD-CDE6-4A8C-89A5-FCEC78F5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7242-7608-4152-A29E-2337B4B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22CE-8A0B-4C40-BE11-F7B7AAEA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9778-9BA9-4E67-B6D7-535DB61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730B-4355-452A-AF69-400EAE68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169-CE29-47B6-8AE9-73C2CBB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DCBA-EE88-4D02-9AF9-CFB1F87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3DB2-36C4-490B-935E-54A92022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A5F0-5303-483C-9771-62E46F3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9109-C2F7-4743-88FB-87778A0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1FEB-A9F5-4BFF-B74A-5EE9F4C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4CA8-C628-433C-9901-75A3C44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DB64-5A6F-4AD6-809E-76655DD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CB80-F71A-46A5-82E1-8EE031FD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90DE-6AAD-43CC-B774-5FC665EA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EEE-1CD5-4EDC-ACCB-E50C5A6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668-E183-41F9-803B-EE41B31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63F-BE8B-4933-A7EA-F638AB3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0F5-2A34-4DE1-90CD-753D8569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95C-8204-429A-BA10-74FC345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9AA-0A21-411C-9352-11F519DA34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F308-D9FD-4ECD-933E-EC5D8D05009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733-697C-4698-AE95-16A057F457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766-4C2D-4482-91E7-49BA0195FB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saint-petersburg.ru/i/imglibtmp/2869_msg-bi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vro-registr.ru/upload/images/863f142bd511913675c101bb5cccfbc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eti.ru/uploads/posts/2009-08/1250584933_a96782_a492_ovetto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907560"/>
            <a:ext cx="8002440" cy="38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опаганда  раздельного сбора коммунальных отходов (ТКО) среди школьни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. Анализ мест образования ТКО,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. Рассмотрение безопасны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пособов сбора ТКО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3. Изучение технологий переработ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омпонентов ТКО и их повторного               примен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6" descr="trash"/>
          <p:cNvPicPr/>
          <p:nvPr/>
        </p:nvPicPr>
        <p:blipFill>
          <a:blip r:embed="rId1"/>
          <a:stretch/>
        </p:blipFill>
        <p:spPr>
          <a:xfrm>
            <a:off x="6983280" y="2525760"/>
            <a:ext cx="2160720" cy="162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Картинка 290 из 81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58040" y="4292640"/>
            <a:ext cx="2217600" cy="15843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http://img0.liveinternet.ru/images/attach/c/1/63/766/63766345_1283951691_How_to_Make_Magical_Butterflies_fc.jpg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31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http://img1.liveinternet.ru/images/attach/c/0/43/586/43586703_flores_carinhas.jpg"/>
          <p:cNvPicPr/>
          <p:nvPr/>
        </p:nvPicPr>
        <p:blipFill>
          <a:blip r:embed="rId2"/>
          <a:stretch/>
        </p:blipFill>
        <p:spPr>
          <a:xfrm>
            <a:off x="0" y="1413000"/>
            <a:ext cx="3024360" cy="224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ttp://igrushka.kz/vip78/pla4.jpg"/>
          <p:cNvPicPr/>
          <p:nvPr/>
        </p:nvPicPr>
        <p:blipFill>
          <a:blip r:embed="rId3"/>
          <a:stretch/>
        </p:blipFill>
        <p:spPr>
          <a:xfrm>
            <a:off x="6792840" y="1413000"/>
            <a:ext cx="2351160" cy="205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www.epochtimes.ru/images/stories/06/sport2011/161_211011PPB_26.jpg"/>
          <p:cNvPicPr/>
          <p:nvPr/>
        </p:nvPicPr>
        <p:blipFill>
          <a:blip r:embed="rId4"/>
          <a:stretch/>
        </p:blipFill>
        <p:spPr>
          <a:xfrm>
            <a:off x="1403280" y="4365720"/>
            <a:ext cx="2494080" cy="19494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-3240" y="82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040" y="199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680" y="45982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3240" y="603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771640" y="1125360"/>
            <a:ext cx="432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тори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исполь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пластико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бут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6" descr="http://moi-podelki.ru/wp-content/uploads/2010/02/1.jpg"/>
          <p:cNvPicPr/>
          <p:nvPr/>
        </p:nvPicPr>
        <p:blipFill>
          <a:blip r:embed="rId1"/>
          <a:stretch/>
        </p:blipFill>
        <p:spPr>
          <a:xfrm>
            <a:off x="6899400" y="1413000"/>
            <a:ext cx="2244600" cy="24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http://salamand.ru/wp-content/uploads/2010/11/4-251x300.jpg"/>
          <p:cNvPicPr/>
          <p:nvPr/>
        </p:nvPicPr>
        <p:blipFill>
          <a:blip r:embed="rId2"/>
          <a:stretch/>
        </p:blipFill>
        <p:spPr>
          <a:xfrm>
            <a:off x="0" y="1484280"/>
            <a:ext cx="2112840" cy="2521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 Мастер-класс Папье-маше: Как сделать голову дракону Бумага газетная, Скотч Новый год. Фото 1"/>
          <p:cNvPicPr/>
          <p:nvPr/>
        </p:nvPicPr>
        <p:blipFill>
          <a:blip r:embed="rId3"/>
          <a:stretch/>
        </p:blipFill>
        <p:spPr>
          <a:xfrm>
            <a:off x="1979640" y="4194000"/>
            <a:ext cx="2009880" cy="26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 Мастер-класс Папье-маше: Ваза папье-маше Бумага газетная День рождения. Фото 1"/>
          <p:cNvPicPr/>
          <p:nvPr/>
        </p:nvPicPr>
        <p:blipFill>
          <a:blip r:embed="rId4"/>
          <a:stretch/>
        </p:blipFill>
        <p:spPr>
          <a:xfrm>
            <a:off x="5508720" y="4194000"/>
            <a:ext cx="19857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1800" y="-53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800" y="146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800" y="344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1800" y="542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0" y="738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2700360" y="620640"/>
            <a:ext cx="432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тори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исполь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остатков бума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и изгото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папье-м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еработка  ТКО  позволит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чистить территории городов  и  почвы от захламлен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щитит воздух и водоемы от загрязнен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зволит сохранить и использовать ценные компонен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611280" y="1130040"/>
            <a:ext cx="80643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. Твердые коммунальные отходы сильно загрязняют окружающую нас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. При использовании раздельного сбора компонентов из твердых коммунальных отходов можно получить ценные компон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охранить окружающую нас природу может только ЧЕЛ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mensen_jongen_gooit_in_bak"/>
          <p:cNvPicPr/>
          <p:nvPr/>
        </p:nvPicPr>
        <p:blipFill>
          <a:blip r:embed="rId1"/>
          <a:stretch/>
        </p:blipFill>
        <p:spPr>
          <a:xfrm>
            <a:off x="1042920" y="4365720"/>
            <a:ext cx="1428840" cy="17524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0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1724040" cy="20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24000" y="549360"/>
          <a:ext cx="8640720" cy="5975280"/>
        </p:xfrm>
        <a:graphic>
          <a:graphicData uri="http://schemas.openxmlformats.org/drawingml/2006/table">
            <a:tbl>
              <a:tblPr/>
              <a:tblGrid>
                <a:gridCol w="2898720"/>
                <a:gridCol w="2900160"/>
                <a:gridCol w="2841840"/>
              </a:tblGrid>
              <a:tr h="59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бавиться от накопления твердых бытовых от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БО  можно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вное  запомни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бор макулатуры позволит сохранить л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бор металлолома послужит вторичным сырь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бор стеклотары сократит расходы  природных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бор полиэтилена защитит почву от захлам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мое главное помнить всегда и везд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Чисто не там где убирают, а там где не мусорят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и переработка  ТБО  позволи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истить территории городов  и  почвы от захламл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ит воздух и водоемы от загрязн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ит сохранить и использовать ценные компонен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ть окружающую нас природу может т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6043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Твердые коммунальные отходы (ТКО) – э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тходы, образующиеся в жилых зданиях, торговых, спортивных и других предприятиях (включая отходы от текущего ремонта квартир), отходы от отопительных устройств местного отопления, смет, опавшие листья, собираемые с дворовых территорий, и крупногабаритные отходы (старая мебель, бытовая техника)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6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хема 2" descr=""/>
          <p:cNvPicPr/>
          <p:nvPr/>
        </p:nvPicPr>
        <p:blipFill>
          <a:blip r:embed="rId1"/>
          <a:stretch/>
        </p:blipFill>
        <p:spPr>
          <a:xfrm>
            <a:off x="384120" y="615960"/>
            <a:ext cx="83026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временные герметичные емкости для сбора ТК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Картинка 86 из 8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2589120"/>
            <a:ext cx="4572000" cy="34322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202" name="Picture 9" descr="Картинка 427 из 8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21440" y="2584440"/>
            <a:ext cx="3527280" cy="3527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хема 3" descr=""/>
          <p:cNvPicPr/>
          <p:nvPr/>
        </p:nvPicPr>
        <p:blipFill>
          <a:blip r:embed="rId1"/>
          <a:stretch/>
        </p:blipFill>
        <p:spPr>
          <a:xfrm>
            <a:off x="2828880" y="103320"/>
            <a:ext cx="6222960" cy="6218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2"/>
          <p:cNvSpPr/>
          <p:nvPr/>
        </p:nvSpPr>
        <p:spPr>
          <a:xfrm>
            <a:off x="264600" y="2035080"/>
            <a:ext cx="285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 состав Т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компон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хема 3" descr=""/>
          <p:cNvPicPr/>
          <p:nvPr/>
        </p:nvPicPr>
        <p:blipFill>
          <a:blip r:embed="rId1"/>
          <a:stretch/>
        </p:blipFill>
        <p:spPr>
          <a:xfrm>
            <a:off x="-6480" y="652320"/>
            <a:ext cx="6742080" cy="62182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2"/>
          <p:cNvSpPr/>
          <p:nvPr/>
        </p:nvSpPr>
        <p:spPr>
          <a:xfrm>
            <a:off x="6166800" y="2349360"/>
            <a:ext cx="285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 состав Т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в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асные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компон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673200" y="92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42560" y="620280"/>
            <a:ext cx="7510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ереработка Т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роводится путем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Вывоза на свалки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Компостир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биологических отход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Переработки на мусороперерабатывающи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завода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Сжигания на мусоросжигате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завода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6" descr="%D0%A1%D0%B2%D0%B0%D0%BB%D0%BA%D0%B0"/>
          <p:cNvPicPr/>
          <p:nvPr/>
        </p:nvPicPr>
        <p:blipFill>
          <a:blip r:embed="rId1"/>
          <a:stretch/>
        </p:blipFill>
        <p:spPr>
          <a:xfrm>
            <a:off x="6372360" y="206064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9"/>
          <p:cNvSpPr/>
          <p:nvPr/>
        </p:nvSpPr>
        <p:spPr>
          <a:xfrm>
            <a:off x="1800" y="-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http://upload.wikimedia.org/wikipedia/commons/thumb/4/4b/Landfill_compactor.jpg/220px-Landfill_compactor.jpg"/>
          <p:cNvPicPr/>
          <p:nvPr/>
        </p:nvPicPr>
        <p:blipFill>
          <a:blip r:embed="rId2"/>
          <a:stretch/>
        </p:blipFill>
        <p:spPr>
          <a:xfrm>
            <a:off x="0" y="274680"/>
            <a:ext cx="2762280" cy="1847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0"/>
          <p:cNvSpPr/>
          <p:nvPr/>
        </p:nvSpPr>
        <p:spPr>
          <a:xfrm>
            <a:off x="1080" y="2121840"/>
            <a:ext cx="3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8" descr="kazan_ecolog"/>
          <p:cNvPicPr/>
          <p:nvPr/>
        </p:nvPicPr>
        <p:blipFill>
          <a:blip r:embed="rId3"/>
          <a:stretch/>
        </p:blipFill>
        <p:spPr>
          <a:xfrm>
            <a:off x="7164360" y="4149720"/>
            <a:ext cx="1995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Diagram 6"/>
          <p:cNvGrpSpPr/>
          <p:nvPr/>
        </p:nvGrpSpPr>
        <p:grpSpPr>
          <a:xfrm>
            <a:off x="1757880" y="2220120"/>
            <a:ext cx="6059880" cy="4261320"/>
            <a:chOff x="1757880" y="2220120"/>
            <a:chExt cx="6059880" cy="4261320"/>
          </a:xfrm>
        </p:grpSpPr>
        <p:sp>
          <p:nvSpPr>
            <p:cNvPr id="215" name="_s1028"/>
            <p:cNvSpPr/>
            <p:nvPr/>
          </p:nvSpPr>
          <p:spPr>
            <a:xfrm>
              <a:off x="2726280" y="2220120"/>
              <a:ext cx="4123080" cy="2898720"/>
            </a:xfrm>
            <a:custGeom>
              <a:avLst/>
              <a:gdLst>
                <a:gd name="textAreaLeft" fmla="*/ 0 w 4123080"/>
                <a:gd name="textAreaRight" fmla="*/ 4123440 w 4123080"/>
                <a:gd name="textAreaTop" fmla="*/ 0 h 2898720"/>
                <a:gd name="textAreaBottom" fmla="*/ 2899080 h 28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noFill/>
            <a:ln w="284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29"/>
            <p:cNvSpPr/>
            <p:nvPr/>
          </p:nvSpPr>
          <p:spPr>
            <a:xfrm rot="5400000">
              <a:off x="4306680" y="2289240"/>
              <a:ext cx="2898720" cy="4123080"/>
            </a:xfrm>
            <a:custGeom>
              <a:avLst/>
              <a:gdLst>
                <a:gd name="textAreaLeft" fmla="*/ 0 w 2898720"/>
                <a:gd name="textAreaRight" fmla="*/ 2899080 w 2898720"/>
                <a:gd name="textAreaTop" fmla="*/ 0 h 4123080"/>
                <a:gd name="textAreaBottom" fmla="*/ 4123440 h 412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noFill/>
            <a:ln w="28440">
              <a:solidFill>
                <a:srgbClr val="85d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0"/>
            <p:cNvSpPr/>
            <p:nvPr/>
          </p:nvSpPr>
          <p:spPr>
            <a:xfrm rot="10800000">
              <a:off x="2725920" y="3582720"/>
              <a:ext cx="4123080" cy="2898720"/>
            </a:xfrm>
            <a:custGeom>
              <a:avLst/>
              <a:gdLst>
                <a:gd name="textAreaLeft" fmla="*/ 0 w 4123080"/>
                <a:gd name="textAreaRight" fmla="*/ 4123440 w 4123080"/>
                <a:gd name="textAreaTop" fmla="*/ 0 h 2898720"/>
                <a:gd name="textAreaBottom" fmla="*/ 2899080 h 28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noFill/>
            <a:ln w="2844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1"/>
            <p:cNvSpPr/>
            <p:nvPr/>
          </p:nvSpPr>
          <p:spPr>
            <a:xfrm rot="16200000">
              <a:off x="2369880" y="2289240"/>
              <a:ext cx="2898720" cy="4123080"/>
            </a:xfrm>
            <a:custGeom>
              <a:avLst/>
              <a:gdLst>
                <a:gd name="textAreaLeft" fmla="*/ 0 w 2898720"/>
                <a:gd name="textAreaRight" fmla="*/ 2899080 w 2898720"/>
                <a:gd name="textAreaTop" fmla="*/ 0 h 4123080"/>
                <a:gd name="textAreaBottom" fmla="*/ 4123440 h 412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noFill/>
            <a:ln w="284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5886360" y="2485080"/>
              <a:ext cx="155232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Разде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ереработ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мпон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2134800" y="2487240"/>
              <a:ext cx="155160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Компост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ологическ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тход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34"/>
            <p:cNvSpPr/>
            <p:nvPr/>
          </p:nvSpPr>
          <p:spPr>
            <a:xfrm>
              <a:off x="2137320" y="5126400"/>
              <a:ext cx="155232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Раздель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бо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мпонен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Б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5888880" y="5124600"/>
              <a:ext cx="155232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.Сжиг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перераб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ываем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пон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3"/>
          <p:cNvSpPr/>
          <p:nvPr/>
        </p:nvSpPr>
        <p:spPr>
          <a:xfrm>
            <a:off x="611280" y="836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Безопасная схема переработки ТКО включает в себ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одержимое 2"/>
          <p:cNvSpPr/>
          <p:nvPr/>
        </p:nvSpPr>
        <p:spPr>
          <a:xfrm>
            <a:off x="468360" y="1844640"/>
            <a:ext cx="84247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Собранные отдельно компоненты 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могут найти применение при изготов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-нужны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-крас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</a:rPr>
              <a:t>предметов и товаров народного потреблени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49:38Z</dcterms:created>
  <dc:creator>аеегкегкег</dc:creator>
  <dc:description/>
  <dc:language>en-US</dc:language>
  <cp:lastModifiedBy>Коломейцева_НИ</cp:lastModifiedBy>
  <dcterms:modified xsi:type="dcterms:W3CDTF">2015-05-18T06:54:38Z</dcterms:modified>
  <cp:revision>30</cp:revision>
  <dc:subject/>
  <dc:title>Правовые основы метрологической деятельности</dc:title>
</cp:coreProperties>
</file>